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1BB-1C07-41CB-A930-040E0FDE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F69-EE6A-4ABF-B1DB-EF0B8149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EA5-9BFC-4F3D-B6A6-AC46BD5F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29A-5C1A-401C-B14C-EC9EDF24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B507-9E75-4948-B259-32EFF9E8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11EC-1078-4358-A296-03C01F36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1D1B-1529-43B5-83A5-5F5618AE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5A97-05D7-4B1E-BDC0-767A1A79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6FD9-ABA9-4F0B-A3D8-83CC18C5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14C4-07EF-49BA-9D00-563F9E3C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E5BF-3C7B-4465-8D4E-2474D1DD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DE2-BEB0-489A-A8A3-641F8464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6D38-B2BA-48A8-8DBE-190A26E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280C-9DFF-4ED7-A016-A28988CD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0C1A-E42C-4F9F-92AF-69585AC5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6B18-B195-418F-8AB1-8B3B088E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631D-7DB2-4B94-AA2B-77685714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517-BCDA-40C4-BBC8-4E337EF8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13E-25A9-440A-BE38-933D6445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394-1F4F-4F61-B67E-FB77DE39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001-C4C0-4F7B-A3BE-3E230F4B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F3D-7767-4F55-9EC4-F6ABD42C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C76-F43D-4799-859A-6E3DFAB8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E83-49FB-472C-8C8B-55AF060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EE4F-3954-4A42-8DB2-7EBFCC82F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3A86-82B5-43FA-902E-D896F5474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Daylon and Ty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Decim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Often ‘’ decimal number”   is also used to mean a number that uses a decimal point followed  by digits as a way of showing values than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Lowest common multip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Example’’the least common multiple of   3 and 5 is 15 because15 is a multiple of 3 and also a multiple of 5.other common multiples include30 and  45,etc,but they are not the smallest [least]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Least common denominato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Example; the least common denominator of  ½  and 2/3 is 6 because they can be written as 3/6 and 4/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perc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Percent means parts per 100 the symbol is % example;25% means 25 per 100 [25% of this box is 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express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Numbers  ,symbols  and operators (such as x, +, and -) grouped together that show the value of something.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ackadder ITC"/>
              </a:rPr>
              <a:t>2 x 3 is an expre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external image Mathematics.jpg"/>
          <p:cNvPicPr/>
          <p:nvPr/>
        </p:nvPicPr>
        <p:blipFill>
          <a:blip r:embed="rId2"/>
          <a:stretch/>
        </p:blipFill>
        <p:spPr>
          <a:xfrm>
            <a:off x="762120" y="3886200"/>
            <a:ext cx="5715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external image Mathematics.jpg"/>
          <p:cNvPicPr/>
          <p:nvPr/>
        </p:nvPicPr>
        <p:blipFill>
          <a:blip r:embed="rId2"/>
          <a:stretch/>
        </p:blipFill>
        <p:spPr>
          <a:xfrm>
            <a:off x="304920" y="2971800"/>
            <a:ext cx="5715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27:18Z</dcterms:created>
  <dc:creator>daylon.barnes</dc:creator>
  <dc:description/>
  <dc:language>en-US</dc:language>
  <cp:lastModifiedBy>daylon.barnes</cp:lastModifiedBy>
  <dcterms:modified xsi:type="dcterms:W3CDTF">2010-11-23T19:07:31Z</dcterms:modified>
  <cp:revision>2</cp:revision>
  <dc:subject/>
  <dc:title>Vocabulary </dc:title>
</cp:coreProperties>
</file>